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907588"/>
  <p:notesSz cx="6858000" cy="9652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76560" y="723960"/>
            <a:ext cx="2504880" cy="361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1199-2E6D-4A09-8181-8FEFAEB4AA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176560" y="723960"/>
            <a:ext cx="2504880" cy="361944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6AFA-54CE-41FA-8580-C215DF8709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A28A-5DC8-4AFE-AF23-60F67FA51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8A75-399E-4A14-96AD-2228E829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F934-1F29-4142-9E26-A488401E4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4D3F-1822-415D-B6FB-CBE6BD428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E711-6612-4288-9F69-06816388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9688-A41E-4F03-83B6-7CE60729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F342-B514-409C-9CA2-8C7CFBE2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72BE-07AC-4EA6-A624-A33D1088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2184-9FD6-4829-9D72-933E69B6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953C-4AAF-4D3B-A567-9F47B071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0E47-ABC8-4C6B-AA19-01DCDECB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38EB-C8FA-4528-9A27-1507B6CD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30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E41D-FC66-4412-ADDB-EF9FB6C6BD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8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1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3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5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7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9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2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4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3"/>
          <p:cNvSpPr/>
          <p:nvPr/>
        </p:nvSpPr>
        <p:spPr>
          <a:xfrm>
            <a:off x="4437000" y="0"/>
            <a:ext cx="2421000" cy="13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ложение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 Решению Дум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ородского округа Сама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 27 июня 2013 г. № 3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7" descr="C:\Documents and Settings\PalashinaND.SAMADM\Рабочий стол\Решения Думы\Решения Думы 2013\К Решению думы по КЗЗ 1 в 2013\1\Слайд6.PNG"/>
          <p:cNvPicPr/>
          <p:nvPr/>
        </p:nvPicPr>
        <p:blipFill>
          <a:blip r:embed="rId1"/>
          <a:stretch/>
        </p:blipFill>
        <p:spPr>
          <a:xfrm>
            <a:off x="3429000" y="6093000"/>
            <a:ext cx="3119400" cy="233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Picture 18" descr="C:\Documents and Settings\PalashinaND.SAMADM\Рабочий стол\Решения Думы\Решения Думы 2013\К Решению думы по КЗЗ 1 в 2013\1\Слайд1.PNG"/>
          <p:cNvPicPr/>
          <p:nvPr/>
        </p:nvPicPr>
        <p:blipFill>
          <a:blip r:embed="rId2"/>
          <a:stretch/>
        </p:blipFill>
        <p:spPr>
          <a:xfrm>
            <a:off x="309600" y="1424160"/>
            <a:ext cx="3119400" cy="233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" name="Picture 20" descr="C:\Documents and Settings\PalashinaND.SAMADM\Рабочий стол\Решения Думы\Решения Думы 2013\К Решению думы по КЗЗ 1 в 2013\1\Слайд3.PNG"/>
          <p:cNvPicPr/>
          <p:nvPr/>
        </p:nvPicPr>
        <p:blipFill>
          <a:blip r:embed="rId3"/>
          <a:stretch/>
        </p:blipFill>
        <p:spPr>
          <a:xfrm>
            <a:off x="309600" y="376560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" name="Picture 22" descr="C:\Documents and Settings\PalashinaND.SAMADM\Рабочий стол\Решения Думы\Решения Думы 2013\К Решению думы по КЗЗ 1 в 2013\1\Слайд5.PNG"/>
          <p:cNvPicPr/>
          <p:nvPr/>
        </p:nvPicPr>
        <p:blipFill>
          <a:blip r:embed="rId4"/>
          <a:stretch/>
        </p:blipFill>
        <p:spPr>
          <a:xfrm>
            <a:off x="309600" y="6093000"/>
            <a:ext cx="3119400" cy="233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1" name="Picture 17" descr=""/>
          <p:cNvPicPr/>
          <p:nvPr/>
        </p:nvPicPr>
        <p:blipFill>
          <a:blip r:embed="rId5"/>
          <a:stretch/>
        </p:blipFill>
        <p:spPr>
          <a:xfrm>
            <a:off x="3429000" y="1424160"/>
            <a:ext cx="3119400" cy="233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2" name="Picture 18" descr=""/>
          <p:cNvPicPr/>
          <p:nvPr/>
        </p:nvPicPr>
        <p:blipFill>
          <a:blip r:embed="rId6"/>
          <a:stretch/>
        </p:blipFill>
        <p:spPr>
          <a:xfrm>
            <a:off x="3432240" y="3763800"/>
            <a:ext cx="3116160" cy="23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8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1"/>
          <p:cNvSpPr/>
          <p:nvPr/>
        </p:nvSpPr>
        <p:spPr>
          <a:xfrm>
            <a:off x="0" y="3627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3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5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7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9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2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4"/>
          <p:cNvSpPr/>
          <p:nvPr/>
        </p:nvSpPr>
        <p:spPr>
          <a:xfrm>
            <a:off x="0" y="3095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83"/>
          <p:cNvSpPr/>
          <p:nvPr/>
        </p:nvSpPr>
        <p:spPr>
          <a:xfrm>
            <a:off x="0" y="200160"/>
            <a:ext cx="685800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8" descr="C:\Documents and Settings\PalashinaND.SAMADM\Рабочий стол\Решения Думы\Решения Думы 2013\К Решению думы по КЗЗ 1 в 2013\1\Слайд7.PNG"/>
          <p:cNvPicPr/>
          <p:nvPr/>
        </p:nvPicPr>
        <p:blipFill>
          <a:blip r:embed="rId1"/>
          <a:stretch/>
        </p:blipFill>
        <p:spPr>
          <a:xfrm>
            <a:off x="317520" y="135900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Picture 14" descr=""/>
          <p:cNvPicPr/>
          <p:nvPr/>
        </p:nvPicPr>
        <p:blipFill>
          <a:blip r:embed="rId2"/>
          <a:stretch/>
        </p:blipFill>
        <p:spPr>
          <a:xfrm>
            <a:off x="3436920" y="1359000"/>
            <a:ext cx="31194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1:59:39Z</dcterms:created>
  <dc:creator>GDK</dc:creator>
  <dc:description/>
  <dc:language>en-US</dc:language>
  <cp:lastModifiedBy>Мария Шайкина</cp:lastModifiedBy>
  <cp:lastPrinted>2013-02-05T09:12:35Z</cp:lastPrinted>
  <dcterms:modified xsi:type="dcterms:W3CDTF">2013-06-27T12:46:13Z</dcterms:modified>
  <cp:revision>167</cp:revision>
  <dc:subject/>
  <dc:title>Слайд 1</dc:title>
</cp:coreProperties>
</file>