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770-46B7-4760-9F06-6456C3BB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70B-3A89-49B0-BCD6-BE1D93AA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362-459B-44BA-A5A6-2C3C8C8F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8E5-0448-4BF5-9CBB-FAE86239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0AF-FE5D-4C08-A032-ECACC8CB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83C-BC47-437C-B020-15EACED0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71E-193B-494B-B01D-CDF00DB6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AF9-10DF-40B6-987E-89E3A280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057-A138-4464-A974-022A3FDC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DB7-1DB0-4E28-ACED-A0067FE1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279-BE14-4EE5-9936-895B4C12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580-AC41-461C-9656-91BF731A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0CFE-745C-42DF-B269-01EF2ACA4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3"/>
          <p:cNvSpPr/>
          <p:nvPr/>
        </p:nvSpPr>
        <p:spPr>
          <a:xfrm>
            <a:off x="3860640" y="0"/>
            <a:ext cx="299736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ложен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Решению Ду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одского округа Сам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19 июля 2012  г. № 24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C:\Documents and Settings\PalashinaND.SAMADM\Рабочий стол\Решения Думы\Решения Думы 2012\к решению Думы по 2,3 кзз2011\1\Слайд6.PNG"/>
          <p:cNvPicPr/>
          <p:nvPr/>
        </p:nvPicPr>
        <p:blipFill>
          <a:blip r:embed="rId1"/>
          <a:stretch/>
        </p:blipFill>
        <p:spPr>
          <a:xfrm>
            <a:off x="3429000" y="57816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Picture 19" descr="C:\Documents and Settings\PalashinaND.SAMADM\Рабочий стол\Решения Думы\Решения Думы 2012\к решению Думы по 2,3 кзз2011\1\Слайд1.PNG"/>
          <p:cNvPicPr/>
          <p:nvPr/>
        </p:nvPicPr>
        <p:blipFill>
          <a:blip r:embed="rId2"/>
          <a:stretch/>
        </p:blipFill>
        <p:spPr>
          <a:xfrm>
            <a:off x="309600" y="11001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20" descr="C:\Documents and Settings\PalashinaND.SAMADM\Рабочий стол\Решения Думы\Решения Думы 2012\к решению Думы по 2,3 кзз2011\1\Слайд2.PNG"/>
          <p:cNvPicPr/>
          <p:nvPr/>
        </p:nvPicPr>
        <p:blipFill>
          <a:blip r:embed="rId3"/>
          <a:stretch/>
        </p:blipFill>
        <p:spPr>
          <a:xfrm>
            <a:off x="3429000" y="11001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21" descr="C:\Documents and Settings\PalashinaND.SAMADM\Рабочий стол\Решения Думы\Решения Думы 2012\к решению Думы по 2,3 кзз2011\1\Слайд3.PNG"/>
          <p:cNvPicPr/>
          <p:nvPr/>
        </p:nvPicPr>
        <p:blipFill>
          <a:blip r:embed="rId4"/>
          <a:stretch/>
        </p:blipFill>
        <p:spPr>
          <a:xfrm>
            <a:off x="309600" y="34401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Picture 22" descr="C:\Documents and Settings\PalashinaND.SAMADM\Рабочий стол\Решения Думы\Решения Думы 2012\к решению Думы по 2,3 кзз2011\1\Слайд4.PNG"/>
          <p:cNvPicPr/>
          <p:nvPr/>
        </p:nvPicPr>
        <p:blipFill>
          <a:blip r:embed="rId5"/>
          <a:stretch/>
        </p:blipFill>
        <p:spPr>
          <a:xfrm>
            <a:off x="3429000" y="34401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23" descr="C:\Documents and Settings\PalashinaND.SAMADM\Рабочий стол\Решения Думы\Решения Думы 2012\к решению Думы по 2,3 кзз2011\1\Слайд5.PNG"/>
          <p:cNvPicPr/>
          <p:nvPr/>
        </p:nvPicPr>
        <p:blipFill>
          <a:blip r:embed="rId6"/>
          <a:stretch/>
        </p:blipFill>
        <p:spPr>
          <a:xfrm>
            <a:off x="309600" y="57816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04920" y="5934240"/>
            <a:ext cx="312084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4" descr="C:\Documents and Settings\PalashinaND.SAMADM\Рабочий стол\Решения Думы\Решения Думы 2012\к решению Думы по 2,3 кзз2011\1\Слайд7.PNG"/>
          <p:cNvPicPr/>
          <p:nvPr/>
        </p:nvPicPr>
        <p:blipFill>
          <a:blip r:embed="rId2"/>
          <a:stretch/>
        </p:blipFill>
        <p:spPr>
          <a:xfrm>
            <a:off x="325440" y="12556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5" descr="C:\Documents and Settings\PalashinaND.SAMADM\Рабочий стол\Решения Думы\Решения Думы 2012\к решению Думы по 2,3 кзз2011\1\Слайд8.PNG"/>
          <p:cNvPicPr/>
          <p:nvPr/>
        </p:nvPicPr>
        <p:blipFill>
          <a:blip r:embed="rId3"/>
          <a:stretch/>
        </p:blipFill>
        <p:spPr>
          <a:xfrm>
            <a:off x="3444840" y="1255680"/>
            <a:ext cx="3121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Picture 6" descr="C:\Documents and Settings\PalashinaND.SAMADM\Рабочий стол\Решения Думы\Решения Думы 2012\к решению Думы по 2,3 кзз2011\1\Слайд9.PNG"/>
          <p:cNvPicPr/>
          <p:nvPr/>
        </p:nvPicPr>
        <p:blipFill>
          <a:blip r:embed="rId4"/>
          <a:stretch/>
        </p:blipFill>
        <p:spPr>
          <a:xfrm>
            <a:off x="318960" y="35956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7" descr="C:\Documents and Settings\PalashinaND.SAMADM\Рабочий стол\Решения Думы\Решения Думы 2012\к решению Думы по 2,3 кзз2011\1\Слайд10.PNG"/>
          <p:cNvPicPr/>
          <p:nvPr/>
        </p:nvPicPr>
        <p:blipFill>
          <a:blip r:embed="rId5"/>
          <a:stretch/>
        </p:blipFill>
        <p:spPr>
          <a:xfrm>
            <a:off x="3452760" y="35956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15" descr=""/>
          <p:cNvPicPr/>
          <p:nvPr/>
        </p:nvPicPr>
        <p:blipFill>
          <a:blip r:embed="rId6"/>
          <a:stretch/>
        </p:blipFill>
        <p:spPr>
          <a:xfrm>
            <a:off x="3438360" y="5935680"/>
            <a:ext cx="3119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4" descr=""/>
          <p:cNvPicPr/>
          <p:nvPr/>
        </p:nvPicPr>
        <p:blipFill>
          <a:blip r:embed="rId1"/>
          <a:stretch/>
        </p:blipFill>
        <p:spPr>
          <a:xfrm>
            <a:off x="3429000" y="1352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Picture 16" descr=""/>
          <p:cNvPicPr/>
          <p:nvPr/>
        </p:nvPicPr>
        <p:blipFill>
          <a:blip r:embed="rId2"/>
          <a:stretch/>
        </p:blipFill>
        <p:spPr>
          <a:xfrm>
            <a:off x="309600" y="1352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06360" y="6046920"/>
            <a:ext cx="3121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12840" y="37004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3433680" y="36990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15" descr=""/>
          <p:cNvPicPr/>
          <p:nvPr/>
        </p:nvPicPr>
        <p:blipFill>
          <a:blip r:embed="rId6"/>
          <a:stretch/>
        </p:blipFill>
        <p:spPr>
          <a:xfrm>
            <a:off x="3429000" y="60483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1"/>
          <a:stretch/>
        </p:blipFill>
        <p:spPr>
          <a:xfrm>
            <a:off x="3429000" y="1352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309600" y="1352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312840" y="37004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59:39Z</dcterms:created>
  <dc:creator>GDK</dc:creator>
  <dc:description/>
  <dc:language>en-US</dc:language>
  <cp:lastModifiedBy>M.Shaikina</cp:lastModifiedBy>
  <cp:lastPrinted>2012-07-16T10:54:31Z</cp:lastPrinted>
  <dcterms:modified xsi:type="dcterms:W3CDTF">2012-07-20T09:54:34Z</dcterms:modified>
  <cp:revision>140</cp:revision>
  <dc:subject/>
  <dc:title>Слайд 1</dc:title>
</cp:coreProperties>
</file>