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B6C-D7D4-4AEC-BAEE-7101E9988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519-A19E-4973-BFCA-35F8442FD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A85-C8B0-4371-B3D3-78ACB238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E6E-D2B5-4D53-9953-7EA0DFD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B0-A362-4D32-8623-F383C005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0B6-3EE2-4F0D-8003-294EC398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E21-654F-4212-85B4-B0C63AD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0FF-E8BB-4F9C-BADB-B8AB027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788-AAC0-4BFF-83A0-48A8A38E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985-23B7-4BA8-96E6-3DE088A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C3C-1BCC-4D58-88CC-13501360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66F-F881-4CF1-97D6-74C9165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616-CA40-4133-86E0-8E6777E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C44-3C68-4B41-B2EE-BB7FDBA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8F51-E46C-4959-AF8F-B7CE8F87C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4149720" y="0"/>
            <a:ext cx="2398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13 февраля 2014 г. № 3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C:\Documents and Settings\PalashinaND.SAMADM\Рабочий стол\3К Решению думы по КЗЗ 7 (30.09.2013, 07.10.2013, 21.10.2013,05.11.2013) в 2013 КЗЗ №9 (16.12.2013,18.12.2013,22.01.2014)\1\Слайд1.PNG"/>
          <p:cNvPicPr/>
          <p:nvPr/>
        </p:nvPicPr>
        <p:blipFill>
          <a:blip r:embed="rId1"/>
          <a:stretch/>
        </p:blipFill>
        <p:spPr>
          <a:xfrm>
            <a:off x="331920" y="14968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0" descr="C:\Documents and Settings\PalashinaND.SAMADM\Рабочий стол\3К Решению думы по КЗЗ 7 (30.09.2013, 07.10.2013, 21.10.2013,05.11.2013) в 2013 КЗЗ №9 (16.12.2013,18.12.2013,22.01.2014)\1\Слайд2.PNG"/>
          <p:cNvPicPr/>
          <p:nvPr/>
        </p:nvPicPr>
        <p:blipFill>
          <a:blip r:embed="rId2"/>
          <a:stretch/>
        </p:blipFill>
        <p:spPr>
          <a:xfrm>
            <a:off x="3456000" y="14968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11" descr="C:\Documents and Settings\PalashinaND.SAMADM\Рабочий стол\3К Решению думы по КЗЗ 7 (30.09.2013, 07.10.2013, 21.10.2013,05.11.2013) в 2013 КЗЗ №9 (16.12.2013,18.12.2013,22.01.2014)\1\Слайд3.PNG"/>
          <p:cNvPicPr/>
          <p:nvPr/>
        </p:nvPicPr>
        <p:blipFill>
          <a:blip r:embed="rId3"/>
          <a:stretch/>
        </p:blipFill>
        <p:spPr>
          <a:xfrm>
            <a:off x="3366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12" descr="C:\Documents and Settings\PalashinaND.SAMADM\Рабочий стол\3К Решению думы по КЗЗ 7 (30.09.2013, 07.10.2013, 21.10.2013,05.11.2013) в 2013 КЗЗ №9 (16.12.2013,18.12.2013,22.01.2014)\1\Слайд4.PNG"/>
          <p:cNvPicPr/>
          <p:nvPr/>
        </p:nvPicPr>
        <p:blipFill>
          <a:blip r:embed="rId4"/>
          <a:stretch/>
        </p:blipFill>
        <p:spPr>
          <a:xfrm>
            <a:off x="34290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13" descr="C:\Documents and Settings\PalashinaND.SAMADM\Рабочий стол\3К Решению думы по КЗЗ 7 (30.09.2013, 07.10.2013, 21.10.2013,05.11.2013) в 2013 КЗЗ №9 (16.12.2013,18.12.2013,22.01.2014)\1\Слайд5.PNG"/>
          <p:cNvPicPr/>
          <p:nvPr/>
        </p:nvPicPr>
        <p:blipFill>
          <a:blip r:embed="rId5"/>
          <a:stretch/>
        </p:blipFill>
        <p:spPr>
          <a:xfrm>
            <a:off x="309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4" descr="C:\Documents and Settings\PalashinaND.SAMADM\Рабочий стол\3К Решению думы по КЗЗ 7 (30.09.2013, 07.10.2013, 21.10.2013,05.11.2013) в 2013 КЗЗ №9 (16.12.2013,18.12.2013,22.01.2014)\1\Слайд6.PNG"/>
          <p:cNvPicPr/>
          <p:nvPr/>
        </p:nvPicPr>
        <p:blipFill>
          <a:blip r:embed="rId6"/>
          <a:stretch/>
        </p:blipFill>
        <p:spPr>
          <a:xfrm>
            <a:off x="34290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C:\Documents and Settings\PalashinaND.SAMADM\Рабочий стол\3К Решению думы по КЗЗ 7 (30.09.2013, 07.10.2013, 21.10.2013,05.11.2013) в 2013 КЗЗ №9 (16.12.2013,18.12.2013,22.01.2014)\1\Слайд9.PNG"/>
          <p:cNvPicPr/>
          <p:nvPr/>
        </p:nvPicPr>
        <p:blipFill>
          <a:blip r:embed="rId1"/>
          <a:stretch/>
        </p:blipFill>
        <p:spPr>
          <a:xfrm>
            <a:off x="270000" y="347652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8" descr="C:\Documents and Settings\PalashinaND.SAMADM\Рабочий стол\3К Решению думы по КЗЗ 7 (30.09.2013, 07.10.2013, 21.10.2013,05.11.2013) в 2013 КЗЗ №9 (16.12.2013,18.12.2013,22.01.2014)\1\Слайд10.PNG"/>
          <p:cNvPicPr/>
          <p:nvPr/>
        </p:nvPicPr>
        <p:blipFill>
          <a:blip r:embed="rId2"/>
          <a:stretch/>
        </p:blipFill>
        <p:spPr>
          <a:xfrm>
            <a:off x="3395520" y="346392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9" descr="C:\Documents and Settings\PalashinaND.SAMADM\Рабочий стол\3К Решению думы по КЗЗ 7 (30.09.2013, 07.10.2013, 21.10.2013,05.11.2013) в 2013 КЗЗ №9 (16.12.2013,18.12.2013,22.01.2014)\1\Слайд11.PNG"/>
          <p:cNvPicPr/>
          <p:nvPr/>
        </p:nvPicPr>
        <p:blipFill>
          <a:blip r:embed="rId3"/>
          <a:stretch/>
        </p:blipFill>
        <p:spPr>
          <a:xfrm>
            <a:off x="244440" y="581652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20" descr="C:\Documents and Settings\PalashinaND.SAMADM\Рабочий стол\3К Решению думы по КЗЗ 7 (30.09.2013, 07.10.2013, 21.10.2013,05.11.2013) в 2013 КЗЗ №9 (16.12.2013,18.12.2013,22.01.2014)\1\Слайд12.PNG"/>
          <p:cNvPicPr/>
          <p:nvPr/>
        </p:nvPicPr>
        <p:blipFill>
          <a:blip r:embed="rId4"/>
          <a:stretch/>
        </p:blipFill>
        <p:spPr>
          <a:xfrm>
            <a:off x="3379680" y="58039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1" descr="C:\Documents and Settings\PalashinaND.SAMADM\Рабочий стол\3К Решению думы по КЗЗ 7 (30.09.2013, 07.10.2013, 21.10.2013,05.11.2013) в 2013 КЗЗ №9 (16.12.2013,18.12.2013,22.01.2014)\1\Слайд7.PNG"/>
          <p:cNvPicPr/>
          <p:nvPr/>
        </p:nvPicPr>
        <p:blipFill>
          <a:blip r:embed="rId5"/>
          <a:stretch/>
        </p:blipFill>
        <p:spPr>
          <a:xfrm>
            <a:off x="270000" y="113652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22" descr="C:\Documents and Settings\PalashinaND.SAMADM\Рабочий стол\3К Решению думы по КЗЗ 7 (30.09.2013, 07.10.2013, 21.10.2013,05.11.2013) в 2013 КЗЗ №9 (16.12.2013,18.12.2013,22.01.2014)\1\Слайд8.PNG"/>
          <p:cNvPicPr/>
          <p:nvPr/>
        </p:nvPicPr>
        <p:blipFill>
          <a:blip r:embed="rId6"/>
          <a:stretch/>
        </p:blipFill>
        <p:spPr>
          <a:xfrm>
            <a:off x="3405240" y="113652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C:\Documents and Settings\PalashinaND.SAMADM\Рабочий стол\3К Решению думы по КЗЗ 7 (30.09.2013, 07.10.2013, 21.10.2013,05.11.2013) в 2013 КЗЗ №9 (16.12.2013,18.12.2013,22.01.2014)\1\Слайд17.PNG"/>
          <p:cNvPicPr/>
          <p:nvPr/>
        </p:nvPicPr>
        <p:blipFill>
          <a:blip r:embed="rId1"/>
          <a:stretch/>
        </p:blipFill>
        <p:spPr>
          <a:xfrm>
            <a:off x="309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16" descr="C:\Documents and Settings\PalashinaND.SAMADM\Рабочий стол\3К Решению думы по КЗЗ 7 (30.09.2013, 07.10.2013, 21.10.2013,05.11.2013) в 2013 КЗЗ №9 (16.12.2013,18.12.2013,22.01.2014)\1\Слайд18.PNG"/>
          <p:cNvPicPr/>
          <p:nvPr/>
        </p:nvPicPr>
        <p:blipFill>
          <a:blip r:embed="rId2"/>
          <a:stretch/>
        </p:blipFill>
        <p:spPr>
          <a:xfrm>
            <a:off x="34290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7" descr="C:\Documents and Settings\PalashinaND.SAMADM\Рабочий стол\3К Решению думы по КЗЗ 7 (30.09.2013, 07.10.2013, 21.10.2013,05.11.2013) в 2013 КЗЗ №9 (16.12.2013,18.12.2013,22.01.2014)\1\Слайд13.PNG"/>
          <p:cNvPicPr/>
          <p:nvPr/>
        </p:nvPicPr>
        <p:blipFill>
          <a:blip r:embed="rId3"/>
          <a:stretch/>
        </p:blipFill>
        <p:spPr>
          <a:xfrm>
            <a:off x="317520" y="14968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8" descr="C:\Documents and Settings\PalashinaND.SAMADM\Рабочий стол\3К Решению думы по КЗЗ 7 (30.09.2013, 07.10.2013, 21.10.2013,05.11.2013) в 2013 КЗЗ №9 (16.12.2013,18.12.2013,22.01.2014)\1\Слайд14.PNG"/>
          <p:cNvPicPr/>
          <p:nvPr/>
        </p:nvPicPr>
        <p:blipFill>
          <a:blip r:embed="rId4"/>
          <a:stretch/>
        </p:blipFill>
        <p:spPr>
          <a:xfrm>
            <a:off x="34290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19" descr="C:\Documents and Settings\PalashinaND.SAMADM\Рабочий стол\3К Решению думы по КЗЗ 7 (30.09.2013, 07.10.2013, 21.10.2013,05.11.2013) в 2013 КЗЗ №9 (16.12.2013,18.12.2013,22.01.2014)\1\Слайд15.PNG"/>
          <p:cNvPicPr/>
          <p:nvPr/>
        </p:nvPicPr>
        <p:blipFill>
          <a:blip r:embed="rId5"/>
          <a:stretch/>
        </p:blipFill>
        <p:spPr>
          <a:xfrm>
            <a:off x="3096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20" descr="C:\Documents and Settings\PalashinaND.SAMADM\Рабочий стол\3К Решению думы по КЗЗ 7 (30.09.2013, 07.10.2013, 21.10.2013,05.11.2013) в 2013 КЗЗ №9 (16.12.2013,18.12.2013,22.01.2014)\1\Слайд16.PNG"/>
          <p:cNvPicPr/>
          <p:nvPr/>
        </p:nvPicPr>
        <p:blipFill>
          <a:blip r:embed="rId6"/>
          <a:stretch/>
        </p:blipFill>
        <p:spPr>
          <a:xfrm>
            <a:off x="34290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Documents and Settings\PalashinaND.SAMADM\Рабочий стол\3К Решению думы по КЗЗ 7 (30.09.2013, 07.10.2013, 21.10.2013,05.11.2013) в 2013 КЗЗ №9 (16.12.2013,18.12.2013,22.01.2014)\1\Слайд19.PNG"/>
          <p:cNvPicPr/>
          <p:nvPr/>
        </p:nvPicPr>
        <p:blipFill>
          <a:blip r:embed="rId1"/>
          <a:stretch/>
        </p:blipFill>
        <p:spPr>
          <a:xfrm>
            <a:off x="309600" y="1136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10" descr="C:\Documents and Settings\PalashinaND.SAMADM\Рабочий стол\3К Решению думы по КЗЗ 7 (30.09.2013, 07.10.2013, 21.10.2013,05.11.2013) в 2013 КЗЗ №9 (16.12.2013,18.12.2013,22.01.2014)\1\Слайд20.PNG"/>
          <p:cNvPicPr/>
          <p:nvPr/>
        </p:nvPicPr>
        <p:blipFill>
          <a:blip r:embed="rId2"/>
          <a:stretch/>
        </p:blipFill>
        <p:spPr>
          <a:xfrm>
            <a:off x="3416400" y="113652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1" descr="C:\Documents and Settings\PalashinaND.SAMADM\Рабочий стол\3К Решению думы по КЗЗ 7 (30.09.2013, 07.10.2013, 21.10.2013,05.11.2013) в 2013 КЗЗ №9 (16.12.2013,18.12.2013,22.01.2014)\1\Слайд21.PNG"/>
          <p:cNvPicPr/>
          <p:nvPr/>
        </p:nvPicPr>
        <p:blipFill>
          <a:blip r:embed="rId3"/>
          <a:stretch/>
        </p:blipFill>
        <p:spPr>
          <a:xfrm>
            <a:off x="297000" y="3486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C:\Documents and Settings\PalashinaND.SAMADM\Рабочий стол\3К Решению думы по КЗЗ 7 (30.09.2013, 07.10.2013, 21.10.2013,05.11.2013) в 2013 КЗЗ №9 (16.12.2013,18.12.2013,22.01.2014)\1\Слайд22.PNG"/>
          <p:cNvPicPr/>
          <p:nvPr/>
        </p:nvPicPr>
        <p:blipFill>
          <a:blip r:embed="rId4"/>
          <a:stretch/>
        </p:blipFill>
        <p:spPr>
          <a:xfrm>
            <a:off x="3416400" y="348624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13" descr="C:\Documents and Settings\PalashinaND.SAMADM\Рабочий стол\3К Решению думы по КЗЗ 7 (30.09.2013, 07.10.2013, 21.10.2013,05.11.2013) в 2013 КЗЗ №9 (16.12.2013,18.12.2013,22.01.2014)\1\Слайд23.PNG"/>
          <p:cNvPicPr/>
          <p:nvPr/>
        </p:nvPicPr>
        <p:blipFill>
          <a:blip r:embed="rId5"/>
          <a:stretch/>
        </p:blipFill>
        <p:spPr>
          <a:xfrm>
            <a:off x="290520" y="58276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4" descr="C:\Documents and Settings\PalashinaND.SAMADM\Рабочий стол\3К Решению думы по КЗЗ 7 (30.09.2013, 07.10.2013, 21.10.2013,05.11.2013) в 2013 КЗЗ №9 (16.12.2013,18.12.2013,22.01.2014)\1\Слайд24.PNG"/>
          <p:cNvPicPr/>
          <p:nvPr/>
        </p:nvPicPr>
        <p:blipFill>
          <a:blip r:embed="rId6"/>
          <a:stretch/>
        </p:blipFill>
        <p:spPr>
          <a:xfrm>
            <a:off x="3405240" y="58453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C:\Documents and Settings\PalashinaND.SAMADM\Рабочий стол\3К Решению думы по КЗЗ 7 (30.09.2013, 07.10.2013, 21.10.2013,05.11.2013) в 2013 КЗЗ №9 (16.12.2013,18.12.2013,22.01.2014)\1\Слайд25.PNG"/>
          <p:cNvPicPr/>
          <p:nvPr/>
        </p:nvPicPr>
        <p:blipFill>
          <a:blip r:embed="rId1"/>
          <a:stretch/>
        </p:blipFill>
        <p:spPr>
          <a:xfrm>
            <a:off x="276120" y="120816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0" descr="C:\Documents and Settings\PalashinaND.SAMADM\Рабочий стол\3К Решению думы по КЗЗ 7 (30.09.2013, 07.10.2013, 21.10.2013,05.11.2013) в 2013 КЗЗ №9 (16.12.2013,18.12.2013,22.01.2014)\1\Слайд26.PNG"/>
          <p:cNvPicPr/>
          <p:nvPr/>
        </p:nvPicPr>
        <p:blipFill>
          <a:blip r:embed="rId2"/>
          <a:stretch/>
        </p:blipFill>
        <p:spPr>
          <a:xfrm>
            <a:off x="3376440" y="120024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1" descr="C:\Documents and Settings\PalashinaND.SAMADM\Рабочий стол\3К Решению думы по КЗЗ 7 (30.09.2013, 07.10.2013, 21.10.2013,05.11.2013) в 2013 КЗЗ №9 (16.12.2013,18.12.2013,22.01.2014)\1\Слайд27.PNG"/>
          <p:cNvPicPr/>
          <p:nvPr/>
        </p:nvPicPr>
        <p:blipFill>
          <a:blip r:embed="rId3"/>
          <a:stretch/>
        </p:blipFill>
        <p:spPr>
          <a:xfrm>
            <a:off x="255600" y="356220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12" descr="C:\Documents and Settings\PalashinaND.SAMADM\Рабочий стол\3К Решению думы по КЗЗ 7 (30.09.2013, 07.10.2013, 21.10.2013,05.11.2013) в 2013 КЗЗ №9 (16.12.2013,18.12.2013,22.01.2014)\1\Слайд28.PNG"/>
          <p:cNvPicPr/>
          <p:nvPr/>
        </p:nvPicPr>
        <p:blipFill>
          <a:blip r:embed="rId4"/>
          <a:stretch/>
        </p:blipFill>
        <p:spPr>
          <a:xfrm>
            <a:off x="3376440" y="354024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3" descr="C:\Documents and Settings\PalashinaND.SAMADM\Рабочий стол\3К Решению думы по КЗЗ 7 (30.09.2013, 07.10.2013, 21.10.2013,05.11.2013) в 2013 КЗЗ №9 (16.12.2013,18.12.2013,22.01.2014)\1\Слайд29.PNG"/>
          <p:cNvPicPr/>
          <p:nvPr/>
        </p:nvPicPr>
        <p:blipFill>
          <a:blip r:embed="rId5"/>
          <a:stretch/>
        </p:blipFill>
        <p:spPr>
          <a:xfrm>
            <a:off x="255600" y="590220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14" descr="C:\Documents and Settings\PalashinaND.SAMADM\Рабочий стол\3К Решению думы по КЗЗ 7 (30.09.2013, 07.10.2013, 21.10.2013,05.11.2013) в 2013 КЗЗ №9 (16.12.2013,18.12.2013,22.01.2014)\1\Слайд30.PNG"/>
          <p:cNvPicPr/>
          <p:nvPr/>
        </p:nvPicPr>
        <p:blipFill>
          <a:blip r:embed="rId6"/>
          <a:stretch/>
        </p:blipFill>
        <p:spPr>
          <a:xfrm>
            <a:off x="3376440" y="588024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PalashinaND.SAMADM\Рабочий стол\3К Решению думы по КЗЗ 7 (30.09.2013, 07.10.2013, 21.10.2013,05.11.2013) в 2013 КЗЗ №9 (16.12.2013,18.12.2013,22.01.2014)\1\Слайд33.PNG"/>
          <p:cNvPicPr/>
          <p:nvPr/>
        </p:nvPicPr>
        <p:blipFill>
          <a:blip r:embed="rId1"/>
          <a:stretch/>
        </p:blipFill>
        <p:spPr>
          <a:xfrm>
            <a:off x="287280" y="36608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9" descr="C:\Documents and Settings\PalashinaND.SAMADM\Рабочий стол\3К Решению думы по КЗЗ 7 (30.09.2013, 07.10.2013, 21.10.2013,05.11.2013) в 2013 КЗЗ №9 (16.12.2013,18.12.2013,22.01.2014)\1\Слайд34.PNG"/>
          <p:cNvPicPr/>
          <p:nvPr/>
        </p:nvPicPr>
        <p:blipFill>
          <a:blip r:embed="rId2"/>
          <a:stretch/>
        </p:blipFill>
        <p:spPr>
          <a:xfrm>
            <a:off x="3406680" y="36529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10" descr="C:\Documents and Settings\PalashinaND.SAMADM\Рабочий стол\3К Решению думы по КЗЗ 7 (30.09.2013, 07.10.2013, 21.10.2013,05.11.2013) в 2013 КЗЗ №9 (16.12.2013,18.12.2013,22.01.2014)\1\Слайд35.PNG"/>
          <p:cNvPicPr/>
          <p:nvPr/>
        </p:nvPicPr>
        <p:blipFill>
          <a:blip r:embed="rId3"/>
          <a:stretch/>
        </p:blipFill>
        <p:spPr>
          <a:xfrm>
            <a:off x="289080" y="599292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1" descr="C:\Documents and Settings\PalashinaND.SAMADM\Рабочий стол\3К Решению думы по КЗЗ 7 (30.09.2013, 07.10.2013, 21.10.2013,05.11.2013) в 2013 КЗЗ №9 (16.12.2013,18.12.2013,22.01.2014)\1\Слайд31.PNG"/>
          <p:cNvPicPr/>
          <p:nvPr/>
        </p:nvPicPr>
        <p:blipFill>
          <a:blip r:embed="rId4"/>
          <a:stretch/>
        </p:blipFill>
        <p:spPr>
          <a:xfrm>
            <a:off x="289080" y="132084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2" descr="C:\Documents and Settings\PalashinaND.SAMADM\Рабочий стол\3К Решению думы по КЗЗ 7 (30.09.2013, 07.10.2013, 21.10.2013,05.11.2013) в 2013 КЗЗ №9 (16.12.2013,18.12.2013,22.01.2014)\1\Слайд32.PNG"/>
          <p:cNvPicPr/>
          <p:nvPr/>
        </p:nvPicPr>
        <p:blipFill>
          <a:blip r:embed="rId5"/>
          <a:stretch/>
        </p:blipFill>
        <p:spPr>
          <a:xfrm>
            <a:off x="3409920" y="13129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3-12-04T10:58:09Z</cp:lastPrinted>
  <dcterms:modified xsi:type="dcterms:W3CDTF">2014-02-13T10:53:25Z</dcterms:modified>
  <cp:revision>196</cp:revision>
  <dc:subject/>
  <dc:title>Слайд 1</dc:title>
</cp:coreProperties>
</file>