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6858000" cy="9907588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87280" y="739440"/>
            <a:ext cx="2560680" cy="370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2840" y="4687560"/>
            <a:ext cx="5389560" cy="44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145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08D5B-BE2B-4521-A6F0-BFED8C096DA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2087640" y="739800"/>
            <a:ext cx="2560680" cy="370044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72840" y="4687560"/>
            <a:ext cx="538956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Номер слайда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9924C-7CFD-4E81-8A05-49D1BF923BC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087640" y="739800"/>
            <a:ext cx="2560680" cy="37004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72840" y="4687560"/>
            <a:ext cx="538956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Номер слайда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DDE39-32E2-449D-8106-233866F3E99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BFEA-C55D-4409-9BAA-68C337144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6B20-329D-46BA-8F2A-66CBBACD8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A07C-51D5-41EE-9FF7-D7CE40E96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1331-4A49-4654-BF6E-3B5931696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56A5-C87F-4369-AC7E-AEF458122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F9CB-782F-4ABB-A083-190357D7A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159F-7F4B-4CE2-AB99-A0B2EF737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63C4-3687-43A5-A604-9ED24D19E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4C96-065B-4826-A137-ED6F7728E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0313-DBCA-4A93-AE0A-1D8AE2B03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11A6-B66D-4756-BBAD-99EB5386E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7FE9-CB77-41E9-8074-61B1067C4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30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019800"/>
            <a:ext cx="16002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19800"/>
            <a:ext cx="21715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019800"/>
            <a:ext cx="16002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F5168-BB41-4964-B070-CC0A972C1DA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8"/>
          <p:cNvSpPr/>
          <p:nvPr/>
        </p:nvSpPr>
        <p:spPr>
          <a:xfrm>
            <a:off x="0" y="36273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1"/>
          <p:cNvSpPr/>
          <p:nvPr/>
        </p:nvSpPr>
        <p:spPr>
          <a:xfrm>
            <a:off x="0" y="36273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53"/>
          <p:cNvSpPr/>
          <p:nvPr/>
        </p:nvSpPr>
        <p:spPr>
          <a:xfrm>
            <a:off x="0" y="30956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5"/>
          <p:cNvSpPr/>
          <p:nvPr/>
        </p:nvSpPr>
        <p:spPr>
          <a:xfrm>
            <a:off x="0" y="30956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57"/>
          <p:cNvSpPr/>
          <p:nvPr/>
        </p:nvSpPr>
        <p:spPr>
          <a:xfrm>
            <a:off x="0" y="30956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9"/>
          <p:cNvSpPr/>
          <p:nvPr/>
        </p:nvSpPr>
        <p:spPr>
          <a:xfrm>
            <a:off x="0" y="30956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62"/>
          <p:cNvSpPr/>
          <p:nvPr/>
        </p:nvSpPr>
        <p:spPr>
          <a:xfrm>
            <a:off x="0" y="30956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64"/>
          <p:cNvSpPr/>
          <p:nvPr/>
        </p:nvSpPr>
        <p:spPr>
          <a:xfrm>
            <a:off x="0" y="30956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13"/>
          <p:cNvSpPr/>
          <p:nvPr/>
        </p:nvSpPr>
        <p:spPr>
          <a:xfrm>
            <a:off x="4437000" y="47520"/>
            <a:ext cx="2232000" cy="14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40000"/>
              </a:lnSpc>
              <a:spcBef>
                <a:spcPts val="75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8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иложение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8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  Решению Дум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8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городского округа Самар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8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т 11 апреля 2013 г. № 3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8" descr="C:\Documents and Settings\PalashinaND.SAMADM\Рабочий стол\Решения Думы\Решения Думы 2013\К Решению думы по КЗЗ 6 в 2012\1\Слайд1.PNG"/>
          <p:cNvPicPr/>
          <p:nvPr/>
        </p:nvPicPr>
        <p:blipFill>
          <a:blip r:embed="rId1"/>
          <a:stretch/>
        </p:blipFill>
        <p:spPr>
          <a:xfrm>
            <a:off x="309600" y="1319040"/>
            <a:ext cx="3119400" cy="234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8" name="Picture 19" descr="C:\Documents and Settings\PalashinaND.SAMADM\Рабочий стол\Решения Думы\Решения Думы 2013\К Решению думы по КЗЗ 6 в 2012\1\Слайд2.PNG"/>
          <p:cNvPicPr/>
          <p:nvPr/>
        </p:nvPicPr>
        <p:blipFill>
          <a:blip r:embed="rId2"/>
          <a:stretch/>
        </p:blipFill>
        <p:spPr>
          <a:xfrm>
            <a:off x="3419640" y="1317600"/>
            <a:ext cx="3119400" cy="234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9" name="Picture 20" descr="C:\Documents and Settings\PalashinaND.SAMADM\Рабочий стол\Решения Думы\Решения Думы 2013\К Решению думы по КЗЗ 6 в 2012\1\Слайд3.PNG"/>
          <p:cNvPicPr/>
          <p:nvPr/>
        </p:nvPicPr>
        <p:blipFill>
          <a:blip r:embed="rId3"/>
          <a:stretch/>
        </p:blipFill>
        <p:spPr>
          <a:xfrm>
            <a:off x="298440" y="3657600"/>
            <a:ext cx="3121200" cy="234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0" name="Picture 21" descr="C:\Documents and Settings\PalashinaND.SAMADM\Рабочий стол\Решения Думы\Решения Думы 2013\К Решению думы по КЗЗ 6 в 2012\1\Слайд4.PNG"/>
          <p:cNvPicPr/>
          <p:nvPr/>
        </p:nvPicPr>
        <p:blipFill>
          <a:blip r:embed="rId4"/>
          <a:stretch/>
        </p:blipFill>
        <p:spPr>
          <a:xfrm>
            <a:off x="3430440" y="3668760"/>
            <a:ext cx="3119760" cy="234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1" name="Picture 22" descr="C:\Documents and Settings\PalashinaND.SAMADM\Рабочий стол\Решения Думы\Решения Думы 2013\К Решению думы по КЗЗ 6 в 2012\1\Слайд5.PNG"/>
          <p:cNvPicPr/>
          <p:nvPr/>
        </p:nvPicPr>
        <p:blipFill>
          <a:blip r:embed="rId5"/>
          <a:stretch/>
        </p:blipFill>
        <p:spPr>
          <a:xfrm>
            <a:off x="309600" y="5997600"/>
            <a:ext cx="3119400" cy="234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2" name="Picture 17" descr="C:\Documents and Settings\PalashinaND.SAMADM\Рабочий стол\Решения Думы\Решения Думы 2013\К Решению Думы КЗЗ 6,7,8 в 2012 общее\1\Слайд6.PNG"/>
          <p:cNvPicPr/>
          <p:nvPr/>
        </p:nvPicPr>
        <p:blipFill>
          <a:blip r:embed="rId6"/>
          <a:stretch/>
        </p:blipFill>
        <p:spPr>
          <a:xfrm>
            <a:off x="3430440" y="5997600"/>
            <a:ext cx="3121200" cy="234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48"/>
          <p:cNvSpPr/>
          <p:nvPr/>
        </p:nvSpPr>
        <p:spPr>
          <a:xfrm>
            <a:off x="0" y="36273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1"/>
          <p:cNvSpPr/>
          <p:nvPr/>
        </p:nvSpPr>
        <p:spPr>
          <a:xfrm>
            <a:off x="0" y="36273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53"/>
          <p:cNvSpPr/>
          <p:nvPr/>
        </p:nvSpPr>
        <p:spPr>
          <a:xfrm>
            <a:off x="0" y="30956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55"/>
          <p:cNvSpPr/>
          <p:nvPr/>
        </p:nvSpPr>
        <p:spPr>
          <a:xfrm>
            <a:off x="0" y="30956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7"/>
          <p:cNvSpPr/>
          <p:nvPr/>
        </p:nvSpPr>
        <p:spPr>
          <a:xfrm>
            <a:off x="0" y="30956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59"/>
          <p:cNvSpPr/>
          <p:nvPr/>
        </p:nvSpPr>
        <p:spPr>
          <a:xfrm>
            <a:off x="0" y="30956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62"/>
          <p:cNvSpPr/>
          <p:nvPr/>
        </p:nvSpPr>
        <p:spPr>
          <a:xfrm>
            <a:off x="0" y="30956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64"/>
          <p:cNvSpPr/>
          <p:nvPr/>
        </p:nvSpPr>
        <p:spPr>
          <a:xfrm>
            <a:off x="0" y="30956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83"/>
          <p:cNvSpPr/>
          <p:nvPr/>
        </p:nvSpPr>
        <p:spPr>
          <a:xfrm>
            <a:off x="0" y="200160"/>
            <a:ext cx="6858000" cy="28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3" descr="C:\Documents and Settings\PalashinaND.SAMADM\Рабочий стол\Решения Думы\Решения Думы 2013\К Решению думы по КЗЗ 6 в 2012\1\Слайд7.PNG"/>
          <p:cNvPicPr/>
          <p:nvPr/>
        </p:nvPicPr>
        <p:blipFill>
          <a:blip r:embed="rId1"/>
          <a:stretch/>
        </p:blipFill>
        <p:spPr>
          <a:xfrm>
            <a:off x="309600" y="1389240"/>
            <a:ext cx="3119400" cy="2339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3" name="Picture 17" descr="C:\Documents and Settings\PalashinaND.SAMADM\Рабочий стол\Решения Думы\Решения Думы 2013\1\Слайд12.PNG"/>
          <p:cNvPicPr/>
          <p:nvPr/>
        </p:nvPicPr>
        <p:blipFill>
          <a:blip r:embed="rId2"/>
          <a:stretch/>
        </p:blipFill>
        <p:spPr>
          <a:xfrm>
            <a:off x="3433680" y="6081840"/>
            <a:ext cx="3119400" cy="234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4" name="Picture 18" descr="C:\Documents and Settings\PalashinaND.SAMADM\Рабочий стол\Решения Думы\Решения Думы 2013\1\Слайд8.PNG"/>
          <p:cNvPicPr/>
          <p:nvPr/>
        </p:nvPicPr>
        <p:blipFill>
          <a:blip r:embed="rId3"/>
          <a:stretch/>
        </p:blipFill>
        <p:spPr>
          <a:xfrm>
            <a:off x="3429000" y="1389240"/>
            <a:ext cx="3119400" cy="2339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19" descr="C:\Documents and Settings\PalashinaND.SAMADM\Рабочий стол\Решения Думы\Решения Думы 2013\1\Слайд9.PNG"/>
          <p:cNvPicPr/>
          <p:nvPr/>
        </p:nvPicPr>
        <p:blipFill>
          <a:blip r:embed="rId4"/>
          <a:stretch/>
        </p:blipFill>
        <p:spPr>
          <a:xfrm>
            <a:off x="309600" y="3741840"/>
            <a:ext cx="3119400" cy="234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6" name="Picture 20" descr="C:\Documents and Settings\PalashinaND.SAMADM\Рабочий стол\Решения Думы\Решения Думы 2013\1\Слайд10.PNG"/>
          <p:cNvPicPr/>
          <p:nvPr/>
        </p:nvPicPr>
        <p:blipFill>
          <a:blip r:embed="rId5"/>
          <a:stretch/>
        </p:blipFill>
        <p:spPr>
          <a:xfrm>
            <a:off x="3429000" y="3741840"/>
            <a:ext cx="3119400" cy="234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7" name="Picture 21" descr="C:\Documents and Settings\PalashinaND.SAMADM\Рабочий стол\Решения Думы\Решения Думы 2013\1\Слайд11.PNG"/>
          <p:cNvPicPr/>
          <p:nvPr/>
        </p:nvPicPr>
        <p:blipFill>
          <a:blip r:embed="rId6"/>
          <a:stretch/>
        </p:blipFill>
        <p:spPr>
          <a:xfrm>
            <a:off x="312840" y="6081840"/>
            <a:ext cx="3120840" cy="234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48"/>
          <p:cNvSpPr/>
          <p:nvPr/>
        </p:nvSpPr>
        <p:spPr>
          <a:xfrm>
            <a:off x="0" y="36273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51"/>
          <p:cNvSpPr/>
          <p:nvPr/>
        </p:nvSpPr>
        <p:spPr>
          <a:xfrm>
            <a:off x="0" y="36273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53"/>
          <p:cNvSpPr/>
          <p:nvPr/>
        </p:nvSpPr>
        <p:spPr>
          <a:xfrm>
            <a:off x="0" y="30956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55"/>
          <p:cNvSpPr/>
          <p:nvPr/>
        </p:nvSpPr>
        <p:spPr>
          <a:xfrm>
            <a:off x="0" y="30956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57"/>
          <p:cNvSpPr/>
          <p:nvPr/>
        </p:nvSpPr>
        <p:spPr>
          <a:xfrm>
            <a:off x="0" y="30956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59"/>
          <p:cNvSpPr/>
          <p:nvPr/>
        </p:nvSpPr>
        <p:spPr>
          <a:xfrm>
            <a:off x="0" y="30956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62"/>
          <p:cNvSpPr/>
          <p:nvPr/>
        </p:nvSpPr>
        <p:spPr>
          <a:xfrm>
            <a:off x="0" y="30956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4"/>
          <p:cNvSpPr/>
          <p:nvPr/>
        </p:nvSpPr>
        <p:spPr>
          <a:xfrm>
            <a:off x="0" y="30956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83"/>
          <p:cNvSpPr/>
          <p:nvPr/>
        </p:nvSpPr>
        <p:spPr>
          <a:xfrm>
            <a:off x="0" y="200160"/>
            <a:ext cx="6858000" cy="28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C:\Documents and Settings\PalashinaND.SAMADM\Рабочий стол\Решения Думы\Решения Думы 2013\1\Слайд18.PNG"/>
          <p:cNvPicPr/>
          <p:nvPr/>
        </p:nvPicPr>
        <p:blipFill>
          <a:blip r:embed="rId1"/>
          <a:stretch/>
        </p:blipFill>
        <p:spPr>
          <a:xfrm>
            <a:off x="3429000" y="5999040"/>
            <a:ext cx="3119400" cy="234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8" name="Picture 3" descr="C:\Documents and Settings\PalashinaND.SAMADM\Рабочий стол\Решения Думы\Решения Думы 2013\1\Слайд13.PNG"/>
          <p:cNvPicPr/>
          <p:nvPr/>
        </p:nvPicPr>
        <p:blipFill>
          <a:blip r:embed="rId2"/>
          <a:stretch/>
        </p:blipFill>
        <p:spPr>
          <a:xfrm>
            <a:off x="309600" y="1316160"/>
            <a:ext cx="3119400" cy="234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9" name="Picture 4" descr="C:\Documents and Settings\PalashinaND.SAMADM\Рабочий стол\Решения Думы\Решения Думы 2013\1\Слайд14.PNG"/>
          <p:cNvPicPr/>
          <p:nvPr/>
        </p:nvPicPr>
        <p:blipFill>
          <a:blip r:embed="rId3"/>
          <a:stretch/>
        </p:blipFill>
        <p:spPr>
          <a:xfrm>
            <a:off x="3429000" y="1316160"/>
            <a:ext cx="3119400" cy="234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" name="Picture 5" descr="C:\Documents and Settings\PalashinaND.SAMADM\Рабочий стол\Решения Думы\Решения Думы 2013\1\Слайд15.PNG"/>
          <p:cNvPicPr/>
          <p:nvPr/>
        </p:nvPicPr>
        <p:blipFill>
          <a:blip r:embed="rId4"/>
          <a:stretch/>
        </p:blipFill>
        <p:spPr>
          <a:xfrm>
            <a:off x="309600" y="3657600"/>
            <a:ext cx="3119400" cy="234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1" name="Picture 6" descr="C:\Documents and Settings\PalashinaND.SAMADM\Рабочий стол\Решения Думы\Решения Думы 2013\1\Слайд16.PNG"/>
          <p:cNvPicPr/>
          <p:nvPr/>
        </p:nvPicPr>
        <p:blipFill>
          <a:blip r:embed="rId5"/>
          <a:stretch/>
        </p:blipFill>
        <p:spPr>
          <a:xfrm>
            <a:off x="3429000" y="3659040"/>
            <a:ext cx="3119400" cy="234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2" name="Picture 7" descr="C:\Documents and Settings\PalashinaND.SAMADM\Рабочий стол\Решения Думы\Решения Думы 2013\1\Слайд17.PNG"/>
          <p:cNvPicPr/>
          <p:nvPr/>
        </p:nvPicPr>
        <p:blipFill>
          <a:blip r:embed="rId6"/>
          <a:stretch/>
        </p:blipFill>
        <p:spPr>
          <a:xfrm>
            <a:off x="309600" y="5994360"/>
            <a:ext cx="3119400" cy="234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48"/>
          <p:cNvSpPr/>
          <p:nvPr/>
        </p:nvSpPr>
        <p:spPr>
          <a:xfrm>
            <a:off x="0" y="36273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51"/>
          <p:cNvSpPr/>
          <p:nvPr/>
        </p:nvSpPr>
        <p:spPr>
          <a:xfrm>
            <a:off x="0" y="36273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53"/>
          <p:cNvSpPr/>
          <p:nvPr/>
        </p:nvSpPr>
        <p:spPr>
          <a:xfrm>
            <a:off x="0" y="30956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55"/>
          <p:cNvSpPr/>
          <p:nvPr/>
        </p:nvSpPr>
        <p:spPr>
          <a:xfrm>
            <a:off x="0" y="30956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57"/>
          <p:cNvSpPr/>
          <p:nvPr/>
        </p:nvSpPr>
        <p:spPr>
          <a:xfrm>
            <a:off x="0" y="30956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59"/>
          <p:cNvSpPr/>
          <p:nvPr/>
        </p:nvSpPr>
        <p:spPr>
          <a:xfrm>
            <a:off x="0" y="30956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62"/>
          <p:cNvSpPr/>
          <p:nvPr/>
        </p:nvSpPr>
        <p:spPr>
          <a:xfrm>
            <a:off x="0" y="30956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64"/>
          <p:cNvSpPr/>
          <p:nvPr/>
        </p:nvSpPr>
        <p:spPr>
          <a:xfrm>
            <a:off x="0" y="30956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83"/>
          <p:cNvSpPr/>
          <p:nvPr/>
        </p:nvSpPr>
        <p:spPr>
          <a:xfrm>
            <a:off x="36360" y="200160"/>
            <a:ext cx="6858000" cy="28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8" descr="C:\Documents and Settings\PalashinaND.SAMADM\Рабочий стол\Решения Думы\Решения Думы 2013\1\Слайд19.PNG"/>
          <p:cNvPicPr/>
          <p:nvPr/>
        </p:nvPicPr>
        <p:blipFill>
          <a:blip r:embed="rId1"/>
          <a:stretch/>
        </p:blipFill>
        <p:spPr>
          <a:xfrm>
            <a:off x="290520" y="1389240"/>
            <a:ext cx="3120840" cy="2339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3" name="Picture 19" descr="C:\Documents and Settings\PalashinaND.SAMADM\Рабочий стол\Решения Думы\Решения Думы 2013\1\Слайд20.PNG"/>
          <p:cNvPicPr/>
          <p:nvPr/>
        </p:nvPicPr>
        <p:blipFill>
          <a:blip r:embed="rId2"/>
          <a:stretch/>
        </p:blipFill>
        <p:spPr>
          <a:xfrm>
            <a:off x="3405240" y="1389240"/>
            <a:ext cx="3120840" cy="2339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4" name="Picture 20" descr="C:\Documents and Settings\PalashinaND.SAMADM\Рабочий стол\Решения Думы\Решения Думы 2013\1\Слайд21.PNG"/>
          <p:cNvPicPr/>
          <p:nvPr/>
        </p:nvPicPr>
        <p:blipFill>
          <a:blip r:embed="rId3"/>
          <a:stretch/>
        </p:blipFill>
        <p:spPr>
          <a:xfrm>
            <a:off x="290520" y="3728880"/>
            <a:ext cx="3120840" cy="234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5" name="Picture 21" descr="C:\Documents and Settings\PalashinaND.SAMADM\Рабочий стол\Решения Думы\Решения Думы 2013\1\Слайд22.PNG"/>
          <p:cNvPicPr/>
          <p:nvPr/>
        </p:nvPicPr>
        <p:blipFill>
          <a:blip r:embed="rId4"/>
          <a:stretch/>
        </p:blipFill>
        <p:spPr>
          <a:xfrm>
            <a:off x="3397320" y="3728880"/>
            <a:ext cx="3119400" cy="234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6" name="Picture 22" descr="C:\Documents and Settings\PalashinaND.SAMADM\Рабочий стол\Решения Думы\Решения Думы 2013\1\Слайд23.PNG"/>
          <p:cNvPicPr/>
          <p:nvPr/>
        </p:nvPicPr>
        <p:blipFill>
          <a:blip r:embed="rId5"/>
          <a:stretch/>
        </p:blipFill>
        <p:spPr>
          <a:xfrm>
            <a:off x="276120" y="6068880"/>
            <a:ext cx="3121200" cy="234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7" name="Picture 18" descr="C:\Documents and Settings\PalashinaND.SAMADM\Рабочий стол\Решения Думы\Решения Думы 2013\К Решению Думы КЗЗ 6,7,8 в 2012 общее\1\Слайд24.PNG"/>
          <p:cNvPicPr/>
          <p:nvPr/>
        </p:nvPicPr>
        <p:blipFill>
          <a:blip r:embed="rId6"/>
          <a:stretch/>
        </p:blipFill>
        <p:spPr>
          <a:xfrm>
            <a:off x="3397320" y="6068880"/>
            <a:ext cx="3119400" cy="234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48"/>
          <p:cNvSpPr/>
          <p:nvPr/>
        </p:nvSpPr>
        <p:spPr>
          <a:xfrm>
            <a:off x="0" y="36273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1"/>
          <p:cNvSpPr/>
          <p:nvPr/>
        </p:nvSpPr>
        <p:spPr>
          <a:xfrm>
            <a:off x="0" y="36273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53"/>
          <p:cNvSpPr/>
          <p:nvPr/>
        </p:nvSpPr>
        <p:spPr>
          <a:xfrm>
            <a:off x="0" y="30956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55"/>
          <p:cNvSpPr/>
          <p:nvPr/>
        </p:nvSpPr>
        <p:spPr>
          <a:xfrm>
            <a:off x="0" y="30956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57"/>
          <p:cNvSpPr/>
          <p:nvPr/>
        </p:nvSpPr>
        <p:spPr>
          <a:xfrm>
            <a:off x="0" y="30956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59"/>
          <p:cNvSpPr/>
          <p:nvPr/>
        </p:nvSpPr>
        <p:spPr>
          <a:xfrm>
            <a:off x="0" y="30956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62"/>
          <p:cNvSpPr/>
          <p:nvPr/>
        </p:nvSpPr>
        <p:spPr>
          <a:xfrm>
            <a:off x="0" y="30956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64"/>
          <p:cNvSpPr/>
          <p:nvPr/>
        </p:nvSpPr>
        <p:spPr>
          <a:xfrm>
            <a:off x="0" y="30956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83"/>
          <p:cNvSpPr/>
          <p:nvPr/>
        </p:nvSpPr>
        <p:spPr>
          <a:xfrm>
            <a:off x="0" y="200160"/>
            <a:ext cx="6858000" cy="28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" descr="C:\Documents and Settings\PalashinaND.SAMADM\Рабочий стол\Решения Думы\Решения Думы 2013\1\Слайд30.PNG"/>
          <p:cNvPicPr/>
          <p:nvPr/>
        </p:nvPicPr>
        <p:blipFill>
          <a:blip r:embed="rId1"/>
          <a:stretch/>
        </p:blipFill>
        <p:spPr>
          <a:xfrm>
            <a:off x="3429000" y="6103800"/>
            <a:ext cx="3119400" cy="234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8" name="Picture 3" descr="C:\Documents and Settings\PalashinaND.SAMADM\Рабочий стол\Решения Думы\Решения Думы 2013\1\Слайд25.PNG"/>
          <p:cNvPicPr/>
          <p:nvPr/>
        </p:nvPicPr>
        <p:blipFill>
          <a:blip r:embed="rId2"/>
          <a:stretch/>
        </p:blipFill>
        <p:spPr>
          <a:xfrm>
            <a:off x="318960" y="1424160"/>
            <a:ext cx="3119400" cy="2339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9" name="Picture 4" descr="C:\Documents and Settings\PalashinaND.SAMADM\Рабочий стол\Решения Думы\Решения Думы 2013\1\Слайд26.PNG"/>
          <p:cNvPicPr/>
          <p:nvPr/>
        </p:nvPicPr>
        <p:blipFill>
          <a:blip r:embed="rId3"/>
          <a:stretch/>
        </p:blipFill>
        <p:spPr>
          <a:xfrm>
            <a:off x="3429000" y="1424160"/>
            <a:ext cx="3119400" cy="2339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0" name="Picture 5" descr="C:\Documents and Settings\PalashinaND.SAMADM\Рабочий стол\Решения Думы\Решения Думы 2013\1\Слайд27.PNG"/>
          <p:cNvPicPr/>
          <p:nvPr/>
        </p:nvPicPr>
        <p:blipFill>
          <a:blip r:embed="rId4"/>
          <a:stretch/>
        </p:blipFill>
        <p:spPr>
          <a:xfrm>
            <a:off x="309600" y="3763800"/>
            <a:ext cx="3119400" cy="234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1" name="Picture 6" descr="C:\Documents and Settings\PalashinaND.SAMADM\Рабочий стол\Решения Думы\Решения Думы 2013\1\Слайд28.PNG"/>
          <p:cNvPicPr/>
          <p:nvPr/>
        </p:nvPicPr>
        <p:blipFill>
          <a:blip r:embed="rId5"/>
          <a:stretch/>
        </p:blipFill>
        <p:spPr>
          <a:xfrm>
            <a:off x="3429000" y="3763800"/>
            <a:ext cx="3119400" cy="234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2" name="Picture 7" descr="C:\Documents and Settings\PalashinaND.SAMADM\Рабочий стол\Решения Думы\Решения Думы 2013\1\Слайд29.PNG"/>
          <p:cNvPicPr/>
          <p:nvPr/>
        </p:nvPicPr>
        <p:blipFill>
          <a:blip r:embed="rId6"/>
          <a:stretch/>
        </p:blipFill>
        <p:spPr>
          <a:xfrm>
            <a:off x="309600" y="6103800"/>
            <a:ext cx="3119400" cy="234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5T11:59:39Z</dcterms:created>
  <dc:creator>GDK</dc:creator>
  <dc:description/>
  <dc:language>en-US</dc:language>
  <cp:lastModifiedBy>Мария Шайкина</cp:lastModifiedBy>
  <cp:lastPrinted>2013-04-10T11:21:16Z</cp:lastPrinted>
  <dcterms:modified xsi:type="dcterms:W3CDTF">2013-04-11T12:44:06Z</dcterms:modified>
  <cp:revision>167</cp:revision>
  <dc:subject/>
  <dc:title>Слайд 1</dc:title>
</cp:coreProperties>
</file>