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907588"/>
  <p:notesSz cx="6858000" cy="9652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5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76560" y="723960"/>
            <a:ext cx="2504880" cy="361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53DA-BFDC-40D9-ACC2-DC8F483DC0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2176560" y="723960"/>
            <a:ext cx="2504880" cy="36194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AA34-A705-49A5-B0F7-09A41B9E71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2E3B-16AE-406D-8B3E-569AFE7F8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512C-5D58-42CA-9875-73ED2D1D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CE82-1B8A-45E8-BB29-0FBA54343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2E32-6DFF-454A-A4D7-016AB4D70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E531-7BCF-411B-97B2-DA477462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D4F7-0A77-4395-8A15-CB6F0C15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A022-83F5-448B-9A70-DE31E280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4EFF-AE6D-42E0-B0C6-84BEDB64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1DBC-D786-4234-BC14-8D7A5695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1599-9D02-420B-A5AF-65F16718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F6CD-BDBA-4147-9345-3B36EAEF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8169-8729-4AB9-BFFF-7BFEDF50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30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D02B-B274-45E7-A0EC-AC2D55D0DE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8"/>
          <p:cNvSpPr/>
          <p:nvPr/>
        </p:nvSpPr>
        <p:spPr>
          <a:xfrm>
            <a:off x="0" y="3627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1"/>
          <p:cNvSpPr/>
          <p:nvPr/>
        </p:nvSpPr>
        <p:spPr>
          <a:xfrm>
            <a:off x="0" y="3627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3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5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7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9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2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4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3"/>
          <p:cNvSpPr/>
          <p:nvPr/>
        </p:nvSpPr>
        <p:spPr>
          <a:xfrm>
            <a:off x="3860640" y="0"/>
            <a:ext cx="299736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ложение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  Решению Дум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ородского округа Сама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 31 октября 2013 г. № 3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8" descr="C:\Documents and Settings\PalashinaND.SAMADM\Рабочий стол\Решения Думы\Решения Думы 2013\К Решению думы по КЗЗ 2,3,4,5 (29.07.2013,07.08.2013, 19.08.2013) в 2013 на октябрь\1\Слайд2.PNG"/>
          <p:cNvPicPr/>
          <p:nvPr/>
        </p:nvPicPr>
        <p:blipFill>
          <a:blip r:embed="rId1"/>
          <a:stretch/>
        </p:blipFill>
        <p:spPr>
          <a:xfrm>
            <a:off x="3456000" y="1833480"/>
            <a:ext cx="312084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" name="Picture 19" descr="C:\Documents and Settings\PalashinaND.SAMADM\Рабочий стол\Решения Думы\Решения Думы 2013\К Решению думы по КЗЗ 2,3,4,5 (29.07.2013,07.08.2013, 19.08.2013) в 2013 на октябрь\1\Слайд3.PNG"/>
          <p:cNvPicPr/>
          <p:nvPr/>
        </p:nvPicPr>
        <p:blipFill>
          <a:blip r:embed="rId2"/>
          <a:stretch/>
        </p:blipFill>
        <p:spPr>
          <a:xfrm>
            <a:off x="330120" y="4173480"/>
            <a:ext cx="31212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" name="Picture 20" descr="C:\Documents and Settings\PalashinaND.SAMADM\Рабочий стол\Решения Думы\Решения Думы 2013\К Решению думы по КЗЗ 2,3,4,5 (29.07.2013,07.08.2013, 19.08.2013) в 2013 на октябрь\1\Слайд4.PNG"/>
          <p:cNvPicPr/>
          <p:nvPr/>
        </p:nvPicPr>
        <p:blipFill>
          <a:blip r:embed="rId3"/>
          <a:stretch/>
        </p:blipFill>
        <p:spPr>
          <a:xfrm>
            <a:off x="3456000" y="4173480"/>
            <a:ext cx="312084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0" name="Picture 21" descr="C:\Documents and Settings\PalashinaND.SAMADM\Рабочий стол\Решения Думы\Решения Думы 2013\К Решению думы по КЗЗ 2,3,4,5 (29.07.2013,07.08.2013, 19.08.2013) в 2013 на октябрь\1\Слайд5.PNG"/>
          <p:cNvPicPr/>
          <p:nvPr/>
        </p:nvPicPr>
        <p:blipFill>
          <a:blip r:embed="rId4"/>
          <a:stretch/>
        </p:blipFill>
        <p:spPr>
          <a:xfrm>
            <a:off x="330120" y="6537240"/>
            <a:ext cx="31212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1" name="Picture 22" descr="C:\Documents and Settings\PalashinaND.SAMADM\Рабочий стол\Решения Думы\Решения Думы 2013\К Решению думы по КЗЗ 2,3,4,5 (29.07.2013,07.08.2013, 19.08.2013) в 2013 на октябрь\1\Слайд6.PNG"/>
          <p:cNvPicPr/>
          <p:nvPr/>
        </p:nvPicPr>
        <p:blipFill>
          <a:blip r:embed="rId5"/>
          <a:stretch/>
        </p:blipFill>
        <p:spPr>
          <a:xfrm>
            <a:off x="3443400" y="6537240"/>
            <a:ext cx="312084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2" name="Picture 17" descr=""/>
          <p:cNvPicPr/>
          <p:nvPr/>
        </p:nvPicPr>
        <p:blipFill>
          <a:blip r:embed="rId6"/>
          <a:stretch/>
        </p:blipFill>
        <p:spPr>
          <a:xfrm>
            <a:off x="336600" y="183348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8"/>
          <p:cNvSpPr/>
          <p:nvPr/>
        </p:nvSpPr>
        <p:spPr>
          <a:xfrm>
            <a:off x="0" y="3627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1"/>
          <p:cNvSpPr/>
          <p:nvPr/>
        </p:nvSpPr>
        <p:spPr>
          <a:xfrm>
            <a:off x="0" y="3627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3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5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7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9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2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4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83"/>
          <p:cNvSpPr/>
          <p:nvPr/>
        </p:nvSpPr>
        <p:spPr>
          <a:xfrm>
            <a:off x="0" y="200160"/>
            <a:ext cx="685800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3" descr="C:\Documents and Settings\PalashinaND.SAMADM\Рабочий стол\1\Слайд11.PNG"/>
          <p:cNvPicPr/>
          <p:nvPr/>
        </p:nvPicPr>
        <p:blipFill>
          <a:blip r:embed="rId1"/>
          <a:stretch/>
        </p:blipFill>
        <p:spPr>
          <a:xfrm>
            <a:off x="-4708440" y="3338640"/>
            <a:ext cx="2639880" cy="19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" name="Picture 18" descr="C:\Documents and Settings\PalashinaND.SAMADM\Рабочий стол\Решения Думы\Решения Думы 2013\К Решению думы по КЗЗ 2,3,4,5 (29.07.2013,07.08.2013, 19.08.2013) в 2013 на октябрь\1\Слайд9.PNG"/>
          <p:cNvPicPr/>
          <p:nvPr/>
        </p:nvPicPr>
        <p:blipFill>
          <a:blip r:embed="rId2"/>
          <a:stretch/>
        </p:blipFill>
        <p:spPr>
          <a:xfrm>
            <a:off x="307800" y="3627360"/>
            <a:ext cx="311976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4" name="Picture 19" descr="C:\Documents and Settings\PalashinaND.SAMADM\Рабочий стол\Решения Думы\Решения Думы 2013\К Решению думы по КЗЗ 2,3,4,5 (29.07.2013,07.08.2013, 19.08.2013) в 2013 на октябрь\1\Слайд10.PNG"/>
          <p:cNvPicPr/>
          <p:nvPr/>
        </p:nvPicPr>
        <p:blipFill>
          <a:blip r:embed="rId3"/>
          <a:stretch/>
        </p:blipFill>
        <p:spPr>
          <a:xfrm>
            <a:off x="3429000" y="362736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20" descr="C:\Documents and Settings\PalashinaND.SAMADM\Рабочий стол\Решения Думы\Решения Думы 2013\К Решению думы по КЗЗ 2,3,4,5 (29.07.2013,07.08.2013, 19.08.2013) в 2013 на октябрь\1\Слайд11.PNG"/>
          <p:cNvPicPr/>
          <p:nvPr/>
        </p:nvPicPr>
        <p:blipFill>
          <a:blip r:embed="rId4"/>
          <a:stretch/>
        </p:blipFill>
        <p:spPr>
          <a:xfrm>
            <a:off x="309600" y="596736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6" name="Picture 21" descr="C:\Documents and Settings\PalashinaND.SAMADM\Рабочий стол\Решения Думы\Решения Думы 2013\К Решению думы по КЗЗ 2,3,4,5 (29.07.2013,07.08.2013, 19.08.2013) в 2013 на октябрь\1\Слайд12.PNG"/>
          <p:cNvPicPr/>
          <p:nvPr/>
        </p:nvPicPr>
        <p:blipFill>
          <a:blip r:embed="rId5"/>
          <a:stretch/>
        </p:blipFill>
        <p:spPr>
          <a:xfrm>
            <a:off x="3429000" y="596736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7" name="Picture 22" descr="C:\Documents and Settings\PalashinaND.SAMADM\Рабочий стол\Решения Думы\Решения Думы 2013\К Решению думы по КЗЗ 2,3,4,5 (29.07.2013,07.08.2013, 19.08.2013) в 2013 на октябрь\1\Слайд7.PNG"/>
          <p:cNvPicPr/>
          <p:nvPr/>
        </p:nvPicPr>
        <p:blipFill>
          <a:blip r:embed="rId6"/>
          <a:stretch/>
        </p:blipFill>
        <p:spPr>
          <a:xfrm>
            <a:off x="307800" y="1287360"/>
            <a:ext cx="311976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8" name="Picture 23" descr="C:\Documents and Settings\PalashinaND.SAMADM\Рабочий стол\Решения Думы\Решения Думы 2013\К Решению думы по КЗЗ 2,3,4,5 (29.07.2013,07.08.2013, 19.08.2013) в 2013 на октябрь\1\Слайд8.PNG"/>
          <p:cNvPicPr/>
          <p:nvPr/>
        </p:nvPicPr>
        <p:blipFill>
          <a:blip r:embed="rId7"/>
          <a:stretch/>
        </p:blipFill>
        <p:spPr>
          <a:xfrm>
            <a:off x="3427560" y="1287360"/>
            <a:ext cx="312084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83"/>
          <p:cNvSpPr/>
          <p:nvPr/>
        </p:nvSpPr>
        <p:spPr>
          <a:xfrm>
            <a:off x="0" y="200160"/>
            <a:ext cx="685800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C:\Documents and Settings\PalashinaND.SAMADM\Рабочий стол\Решения Думы\Решения Думы 2013\К Решению думы по КЗЗ 2,3,4,5 (29.07.2013,07.08.2013, 19.08.2013) в 2013 на октябрь\1\Слайд17.PNG"/>
          <p:cNvPicPr/>
          <p:nvPr/>
        </p:nvPicPr>
        <p:blipFill>
          <a:blip r:embed="rId1"/>
          <a:stretch/>
        </p:blipFill>
        <p:spPr>
          <a:xfrm>
            <a:off x="290520" y="5961240"/>
            <a:ext cx="3120840" cy="233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1" name="Picture 5" descr="C:\Documents and Settings\PalashinaND.SAMADM\Рабочий стол\Решения Думы\Решения Думы 2013\К Решению думы по КЗЗ 2,3,4,5 (29.07.2013,07.08.2013, 19.08.2013) в 2013 на октябрь\1\Слайд18.PNG"/>
          <p:cNvPicPr/>
          <p:nvPr/>
        </p:nvPicPr>
        <p:blipFill>
          <a:blip r:embed="rId2"/>
          <a:stretch/>
        </p:blipFill>
        <p:spPr>
          <a:xfrm>
            <a:off x="3411360" y="5961240"/>
            <a:ext cx="3119760" cy="233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2" name="Picture 6" descr="C:\Documents and Settings\PalashinaND.SAMADM\Рабочий стол\Решения Думы\Решения Думы 2013\К Решению думы по КЗЗ 2,3,4,5 (29.07.2013,07.08.2013, 19.08.2013) в 2013 на октябрь\1\Слайд13.PNG"/>
          <p:cNvPicPr/>
          <p:nvPr/>
        </p:nvPicPr>
        <p:blipFill>
          <a:blip r:embed="rId3"/>
          <a:stretch/>
        </p:blipFill>
        <p:spPr>
          <a:xfrm>
            <a:off x="290520" y="1281240"/>
            <a:ext cx="312084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3" name="Picture 7" descr="C:\Documents and Settings\PalashinaND.SAMADM\Рабочий стол\Решения Думы\Решения Думы 2013\К Решению думы по КЗЗ 2,3,4,5 (29.07.2013,07.08.2013, 19.08.2013) в 2013 на октябрь\1\Слайд14.PNG"/>
          <p:cNvPicPr/>
          <p:nvPr/>
        </p:nvPicPr>
        <p:blipFill>
          <a:blip r:embed="rId4"/>
          <a:stretch/>
        </p:blipFill>
        <p:spPr>
          <a:xfrm>
            <a:off x="3411360" y="1281240"/>
            <a:ext cx="311976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4" name="Picture 8" descr="C:\Documents and Settings\PalashinaND.SAMADM\Рабочий стол\Решения Думы\Решения Думы 2013\К Решению думы по КЗЗ 2,3,4,5 (29.07.2013,07.08.2013, 19.08.2013) в 2013 на октябрь\1\Слайд15.PNG"/>
          <p:cNvPicPr/>
          <p:nvPr/>
        </p:nvPicPr>
        <p:blipFill>
          <a:blip r:embed="rId5"/>
          <a:stretch/>
        </p:blipFill>
        <p:spPr>
          <a:xfrm>
            <a:off x="284040" y="3621240"/>
            <a:ext cx="31212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5" name="Picture 9" descr="C:\Documents and Settings\PalashinaND.SAMADM\Рабочий стол\Решения Думы\Решения Думы 2013\К Решению думы по КЗЗ 2,3,4,5 (29.07.2013,07.08.2013, 19.08.2013) в 2013 на октябрь\1\Слайд16.PNG"/>
          <p:cNvPicPr/>
          <p:nvPr/>
        </p:nvPicPr>
        <p:blipFill>
          <a:blip r:embed="rId6"/>
          <a:stretch/>
        </p:blipFill>
        <p:spPr>
          <a:xfrm>
            <a:off x="3411360" y="3621240"/>
            <a:ext cx="311976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83"/>
          <p:cNvSpPr/>
          <p:nvPr/>
        </p:nvSpPr>
        <p:spPr>
          <a:xfrm>
            <a:off x="0" y="200160"/>
            <a:ext cx="685800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C:\Documents and Settings\PalashinaND.SAMADM\Рабочий стол\Решения Думы\Решения Думы 2013\К Решению думы по КЗЗ 2,3,4,5 (29.07.2013,07.08.2013, 19.08.2013) в 2013 на октябрь\1\Слайд19.PNG"/>
          <p:cNvPicPr/>
          <p:nvPr/>
        </p:nvPicPr>
        <p:blipFill>
          <a:blip r:embed="rId1"/>
          <a:stretch/>
        </p:blipFill>
        <p:spPr>
          <a:xfrm>
            <a:off x="307800" y="1208160"/>
            <a:ext cx="31212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" name="Picture 3" descr="C:\Documents and Settings\PalashinaND.SAMADM\Рабочий стол\Решения Думы\Решения Думы 2013\К Решению думы по КЗЗ 2,3,4,5 (29.07.2013,07.08.2013, 19.08.2013) в 2013 на октябрь\1\Слайд20.PNG"/>
          <p:cNvPicPr/>
          <p:nvPr/>
        </p:nvPicPr>
        <p:blipFill>
          <a:blip r:embed="rId2"/>
          <a:stretch/>
        </p:blipFill>
        <p:spPr>
          <a:xfrm>
            <a:off x="3429000" y="120816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" name="Picture 5" descr="C:\Documents and Settings\PalashinaND.SAMADM\Рабочий стол\Решения Думы\Решения Думы 2013\К Решению думы по КЗЗ 2,3,4,5 (29.07.2013,07.08.2013, 19.08.2013) в 2013 на октябрь\1\Слайд22.PNG"/>
          <p:cNvPicPr/>
          <p:nvPr/>
        </p:nvPicPr>
        <p:blipFill>
          <a:blip r:embed="rId3"/>
          <a:stretch/>
        </p:blipFill>
        <p:spPr>
          <a:xfrm>
            <a:off x="3432240" y="3548160"/>
            <a:ext cx="312084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" name="Picture 7" descr=""/>
          <p:cNvPicPr/>
          <p:nvPr/>
        </p:nvPicPr>
        <p:blipFill>
          <a:blip r:embed="rId4"/>
          <a:stretch/>
        </p:blipFill>
        <p:spPr>
          <a:xfrm>
            <a:off x="307800" y="3548160"/>
            <a:ext cx="3121200" cy="2328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1:59:39Z</dcterms:created>
  <dc:creator>GDK</dc:creator>
  <dc:description/>
  <dc:language>en-US</dc:language>
  <cp:lastModifiedBy>Мария Шайкина</cp:lastModifiedBy>
  <cp:lastPrinted>2013-10-17T08:15:30Z</cp:lastPrinted>
  <dcterms:modified xsi:type="dcterms:W3CDTF">2013-10-31T11:47:26Z</dcterms:modified>
  <cp:revision>177</cp:revision>
  <dc:subject/>
  <dc:title>Слайд 1</dc:title>
</cp:coreProperties>
</file>