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7AA-4A32-40FA-8AAE-32B5E74B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B774-FF65-4D1B-95C4-EDFDCEA3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2C06-0A08-43B2-B1E7-78035A8E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0C2F-6E21-4C44-86DA-B61AE846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D794-E057-4D8F-9E4D-90BFFC5E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4D1-4A14-4F0F-81A2-83955679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5D39-480C-4184-A0CC-7EC79083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659-7447-4926-9DD7-F207DB04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E743-BCF1-4544-9EA9-55555749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2442-5E57-4BDD-BD61-5E1F3DDE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123-5103-46EC-829B-7B582690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6F8-953B-484F-A844-F4AC9724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30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1C1F-CA4A-4835-B85F-1AF2CC0EE7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3"/>
          <p:cNvSpPr/>
          <p:nvPr/>
        </p:nvSpPr>
        <p:spPr>
          <a:xfrm>
            <a:off x="3860640" y="0"/>
            <a:ext cx="299736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ложение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Решению Ду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родского округа Сам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26 апреля 2012 года  № 22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7" descr="Слайд5"/>
          <p:cNvPicPr/>
          <p:nvPr/>
        </p:nvPicPr>
        <p:blipFill>
          <a:blip r:embed="rId1"/>
          <a:stretch/>
        </p:blipFill>
        <p:spPr>
          <a:xfrm>
            <a:off x="309600" y="574524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Picture 178" descr="Слайд6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429000" y="574524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Picture 179" descr="Слайд1"/>
          <p:cNvPicPr/>
          <p:nvPr/>
        </p:nvPicPr>
        <p:blipFill>
          <a:blip r:embed="rId3"/>
          <a:stretch/>
        </p:blipFill>
        <p:spPr>
          <a:xfrm>
            <a:off x="309600" y="106524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Picture 180" descr="Слайд2"/>
          <p:cNvPicPr/>
          <p:nvPr/>
        </p:nvPicPr>
        <p:blipFill>
          <a:blip r:embed="rId4"/>
          <a:stretch/>
        </p:blipFill>
        <p:spPr>
          <a:xfrm>
            <a:off x="3429000" y="106524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Picture 181" descr="Слайд3"/>
          <p:cNvPicPr/>
          <p:nvPr/>
        </p:nvPicPr>
        <p:blipFill>
          <a:blip r:embed="rId5"/>
          <a:stretch/>
        </p:blipFill>
        <p:spPr>
          <a:xfrm>
            <a:off x="309600" y="340524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182" descr="Слайд4"/>
          <p:cNvPicPr/>
          <p:nvPr/>
        </p:nvPicPr>
        <p:blipFill>
          <a:blip r:embed="rId6"/>
          <a:stretch/>
        </p:blipFill>
        <p:spPr>
          <a:xfrm>
            <a:off x="3429000" y="340524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1:59:39Z</dcterms:created>
  <dc:creator>GDK</dc:creator>
  <dc:description/>
  <dc:language>en-US</dc:language>
  <cp:lastModifiedBy>M.Shaikina</cp:lastModifiedBy>
  <dcterms:modified xsi:type="dcterms:W3CDTF">2012-04-26T12:51:01Z</dcterms:modified>
  <cp:revision>138</cp:revision>
  <dc:subject/>
  <dc:title>Слайд 1</dc:title>
</cp:coreProperties>
</file>