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C06-C1B1-4F80-BD13-BCF3D31C0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2E9-F1AA-414D-ABB2-D66CFFE68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D9A-2A28-4285-83A6-F25BB450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CED-8B36-4E6B-B5AC-65028BA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334-2D7C-44B6-9C89-B67A9D95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5EC-976A-43B0-8DAC-3CBBF14F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AA7-EE93-46A4-9EE4-921D1CC2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535-6B2F-4887-AD0B-1C9F0195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C42-F9ED-4AB4-B7A3-77B086B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7CA-5012-429A-AF25-2C2863C3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C86-61F0-4404-B217-DCDA324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81C-45BC-41BB-AAC1-9846CC9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469-4D0C-40F5-A512-298E358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E80-5539-4549-9F0C-BD18011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5493-641E-4413-B095-34DA41DBA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4005360" y="30240"/>
            <a:ext cx="2543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5 октября 2012 г. № 2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C:\Documents and Settings\PalashinaND.SAMADM\Рабочий стол\Решения Думы\Решения Думы 2012\К решениюДумы пол 2,3 КЗЗ 2012\1\Слайд6.PNG"/>
          <p:cNvPicPr/>
          <p:nvPr/>
        </p:nvPicPr>
        <p:blipFill>
          <a:blip r:embed="rId1"/>
          <a:stretch/>
        </p:blipFill>
        <p:spPr>
          <a:xfrm>
            <a:off x="3429000" y="606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20" descr="C:\Documents and Settings\PalashinaND.SAMADM\Рабочий стол\Решения Думы\Решения Думы 2012\К решениюДумы пол 2,3 КЗЗ 2012\1\Слайд3.PNG"/>
          <p:cNvPicPr/>
          <p:nvPr/>
        </p:nvPicPr>
        <p:blipFill>
          <a:blip r:embed="rId2"/>
          <a:stretch/>
        </p:blipFill>
        <p:spPr>
          <a:xfrm>
            <a:off x="309600" y="372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2" descr="C:\Documents and Settings\PalashinaND.SAMADM\Рабочий стол\Решения Думы\Решения Думы 2012\К решениюДумы пол 2,3 КЗЗ 2012\1\Слайд5.PNG"/>
          <p:cNvPicPr/>
          <p:nvPr/>
        </p:nvPicPr>
        <p:blipFill>
          <a:blip r:embed="rId3"/>
          <a:stretch/>
        </p:blipFill>
        <p:spPr>
          <a:xfrm>
            <a:off x="309600" y="606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17" descr="C:\Documents and Settings\PalashinaND.SAMADM\Рабочий стол\Решения Думы\Решения Думы 2012\К решениюДумы пол 2,3 КЗЗ 2012\1\Слайд4.PNG"/>
          <p:cNvPicPr/>
          <p:nvPr/>
        </p:nvPicPr>
        <p:blipFill>
          <a:blip r:embed="rId4"/>
          <a:stretch/>
        </p:blipFill>
        <p:spPr>
          <a:xfrm>
            <a:off x="3429000" y="3728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18" descr="C:\Documents and Settings\PalashinaND.SAMADM\Рабочий стол\Решения Думы\Решения Думы 2012\К решениюДумы пол 2,3 КЗЗ 2012\1\Слайд1.PNG"/>
          <p:cNvPicPr/>
          <p:nvPr/>
        </p:nvPicPr>
        <p:blipFill>
          <a:blip r:embed="rId5"/>
          <a:stretch/>
        </p:blipFill>
        <p:spPr>
          <a:xfrm>
            <a:off x="309600" y="138924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9" descr="C:\Documents and Settings\PalashinaND.SAMADM\Рабочий стол\Решения Думы\Решения Думы 2012\К решениюДумы пол 2,3 КЗЗ 2012\1\Слайд2.PNG"/>
          <p:cNvPicPr/>
          <p:nvPr/>
        </p:nvPicPr>
        <p:blipFill>
          <a:blip r:embed="rId6"/>
          <a:stretch/>
        </p:blipFill>
        <p:spPr>
          <a:xfrm>
            <a:off x="3429000" y="138924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C:\Documents and Settings\PalashinaND.SAMADM\Рабочий стол\Решения Думы\Решения Думы 2012\К решениюДумы пол 2,3 КЗЗ 2012\1\Слайд7.PNG"/>
          <p:cNvPicPr/>
          <p:nvPr/>
        </p:nvPicPr>
        <p:blipFill>
          <a:blip r:embed="rId1"/>
          <a:stretch/>
        </p:blipFill>
        <p:spPr>
          <a:xfrm>
            <a:off x="3096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9" descr="C:\Documents and Settings\PalashinaND.SAMADM\Рабочий стол\Решения Думы\Решения Думы 2012\К решениюДумы пол 2,3 КЗЗ 2012\1\Слайд8.PNG"/>
          <p:cNvPicPr/>
          <p:nvPr/>
        </p:nvPicPr>
        <p:blipFill>
          <a:blip r:embed="rId2"/>
          <a:stretch/>
        </p:blipFill>
        <p:spPr>
          <a:xfrm>
            <a:off x="3441600" y="149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20" descr="C:\Documents and Settings\PalashinaND.SAMADM\Рабочий стол\Решения Думы\Решения Думы 2012\К решениюДумы пол 2,3 КЗЗ 2012\1\Слайд9.PNG"/>
          <p:cNvPicPr/>
          <p:nvPr/>
        </p:nvPicPr>
        <p:blipFill>
          <a:blip r:embed="rId3"/>
          <a:stretch/>
        </p:blipFill>
        <p:spPr>
          <a:xfrm>
            <a:off x="309600" y="38386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21" descr="C:\Documents and Settings\PalashinaND.SAMADM\Рабочий стол\Решения Думы\Решения Думы 2012\К решениюДумы пол 2,3 КЗЗ 2012\1\Слайд10.PNG"/>
          <p:cNvPicPr/>
          <p:nvPr/>
        </p:nvPicPr>
        <p:blipFill>
          <a:blip r:embed="rId4"/>
          <a:stretch/>
        </p:blipFill>
        <p:spPr>
          <a:xfrm>
            <a:off x="3441600" y="383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2" descr="C:\Documents and Settings\PalashinaND.SAMADM\Рабочий стол\Решения Думы\Решения Думы 2012\К решениюДумы пол 2,3 КЗЗ 2012\1\Слайд11.PNG"/>
          <p:cNvPicPr/>
          <p:nvPr/>
        </p:nvPicPr>
        <p:blipFill>
          <a:blip r:embed="rId5"/>
          <a:stretch/>
        </p:blipFill>
        <p:spPr>
          <a:xfrm>
            <a:off x="309600" y="61786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7" descr="C:\Documents and Settings\PalashinaND.SAMADM\Рабочий стол\Решения Думы\Решения Думы 2012\К решениюДумы пол 2,3 КЗЗ 2012\1\Слайд12.PNG"/>
          <p:cNvPicPr/>
          <p:nvPr/>
        </p:nvPicPr>
        <p:blipFill>
          <a:blip r:embed="rId6"/>
          <a:stretch/>
        </p:blipFill>
        <p:spPr>
          <a:xfrm>
            <a:off x="3441600" y="6176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7" descr="C:\Documents and Settings\PalashinaND.SAMADM\Рабочий стол\Решения Думы\Решения Думы 2012\К решениюДумы пол 2,3 КЗЗ 2012\1\Слайд18.PNG"/>
          <p:cNvPicPr/>
          <p:nvPr/>
        </p:nvPicPr>
        <p:blipFill>
          <a:blip r:embed="rId1"/>
          <a:stretch/>
        </p:blipFill>
        <p:spPr>
          <a:xfrm>
            <a:off x="3435480" y="61419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8" descr="C:\Documents and Settings\PalashinaND.SAMADM\Рабочий стол\Решения Думы\Решения Думы 2012\К решениюДумы пол 2,3 КЗЗ 2012\1\Слайд13.PNG"/>
          <p:cNvPicPr/>
          <p:nvPr/>
        </p:nvPicPr>
        <p:blipFill>
          <a:blip r:embed="rId2"/>
          <a:stretch/>
        </p:blipFill>
        <p:spPr>
          <a:xfrm>
            <a:off x="316080" y="1460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9" descr="C:\Documents and Settings\PalashinaND.SAMADM\Рабочий стол\Решения Думы\Решения Думы 2012\К решениюДумы пол 2,3 КЗЗ 2012\1\Слайд14.PNG"/>
          <p:cNvPicPr/>
          <p:nvPr/>
        </p:nvPicPr>
        <p:blipFill>
          <a:blip r:embed="rId3"/>
          <a:stretch/>
        </p:blipFill>
        <p:spPr>
          <a:xfrm>
            <a:off x="3429000" y="14428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20" descr="C:\Documents and Settings\PalashinaND.SAMADM\Рабочий стол\Решения Думы\Решения Думы 2012\К решениюДумы пол 2,3 КЗЗ 2012\1\Слайд15.PNG"/>
          <p:cNvPicPr/>
          <p:nvPr/>
        </p:nvPicPr>
        <p:blipFill>
          <a:blip r:embed="rId4"/>
          <a:stretch/>
        </p:blipFill>
        <p:spPr>
          <a:xfrm>
            <a:off x="309600" y="3800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21" descr="C:\Documents and Settings\PalashinaND.SAMADM\Рабочий стол\Решения Думы\Решения Думы 2012\К решениюДумы пол 2,3 КЗЗ 2012\1\Слайд16.PNG"/>
          <p:cNvPicPr/>
          <p:nvPr/>
        </p:nvPicPr>
        <p:blipFill>
          <a:blip r:embed="rId5"/>
          <a:stretch/>
        </p:blipFill>
        <p:spPr>
          <a:xfrm>
            <a:off x="3435480" y="380052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22" descr="C:\Documents and Settings\PalashinaND.SAMADM\Рабочий стол\Решения Думы\Решения Думы 2012\К решениюДумы пол 2,3 КЗЗ 2012\1\Слайд17.PNG"/>
          <p:cNvPicPr/>
          <p:nvPr/>
        </p:nvPicPr>
        <p:blipFill>
          <a:blip r:embed="rId6"/>
          <a:stretch/>
        </p:blipFill>
        <p:spPr>
          <a:xfrm>
            <a:off x="309600" y="61419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3"/>
          <p:cNvSpPr/>
          <p:nvPr/>
        </p:nvSpPr>
        <p:spPr>
          <a:xfrm>
            <a:off x="0" y="200160"/>
            <a:ext cx="6858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C:\Documents and Settings\PalashinaND.SAMADM\Рабочий стол\Решения Думы\Решения Думы 2012\К решениюДумы пол 2,3 КЗЗ 2012\1\Слайд19.PNG"/>
          <p:cNvPicPr/>
          <p:nvPr/>
        </p:nvPicPr>
        <p:blipFill>
          <a:blip r:embed="rId1"/>
          <a:stretch/>
        </p:blipFill>
        <p:spPr>
          <a:xfrm>
            <a:off x="324000" y="144000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2-10-26T05:39:06Z</cp:lastPrinted>
  <dcterms:modified xsi:type="dcterms:W3CDTF">2012-10-26T05:40:25Z</dcterms:modified>
  <cp:revision>158</cp:revision>
  <dc:subject/>
  <dc:title>Слайд 1</dc:title>
</cp:coreProperties>
</file>