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858000" cy="9652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76560" y="723960"/>
            <a:ext cx="2504880" cy="361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180F-5465-4FFD-95BA-1A310EB8D3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76560" y="723960"/>
            <a:ext cx="2504880" cy="361944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омер слайда 3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38AE-2D6C-458D-B0EE-F14F6CF332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C398-10FB-4B80-91C2-D8A18A6C3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191E-7871-4302-B5AC-64DB04D1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1FB2-A20A-482F-B6C1-5C3EC324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5DC1-543D-4B2B-990B-54CC13F4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1E08-991F-40AA-B7CE-5278F2D5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60A7-18DC-425A-B241-46B695BF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BB4D-F304-42F0-98A5-B6AAD647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AC88-DDA3-4C34-B1A8-C1934E5F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226D-6C40-4200-BB31-DD8A6D9D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09BA-DA14-4F20-8074-1442FD03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F740-F58A-4A15-9A0F-8E4CD24F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A05D-F23A-4632-A3C4-B8372CE5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30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5268-BB18-4973-85D9-091614FAF6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8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1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3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5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7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9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2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4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3"/>
          <p:cNvSpPr/>
          <p:nvPr/>
        </p:nvSpPr>
        <p:spPr>
          <a:xfrm>
            <a:off x="4292640" y="0"/>
            <a:ext cx="2376360" cy="13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ложение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  Решению Дум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ородского округа Сам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 06 декабря 2012  г. № 2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8" descr="C:\Documents and Settings\PalashinaND.SAMADM\Рабочий стол\Решения Думы\Решения Думы 2012\К решениюДумы по 5 КЗЗ 2012+Федосеева (КЗЗ 2 в 2012)\1\Слайд1.PNG"/>
          <p:cNvPicPr/>
          <p:nvPr/>
        </p:nvPicPr>
        <p:blipFill>
          <a:blip r:embed="rId1"/>
          <a:stretch/>
        </p:blipFill>
        <p:spPr>
          <a:xfrm>
            <a:off x="309600" y="125100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Picture 19" descr="C:\Documents and Settings\PalashinaND.SAMADM\Рабочий стол\Решения Думы\Решения Думы 2012\К решениюДумы по 5 КЗЗ 2012+Федосеева (КЗЗ 2 в 2012)\1\Слайд2.PNG"/>
          <p:cNvPicPr/>
          <p:nvPr/>
        </p:nvPicPr>
        <p:blipFill>
          <a:blip r:embed="rId2"/>
          <a:stretch/>
        </p:blipFill>
        <p:spPr>
          <a:xfrm>
            <a:off x="3429000" y="124308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Picture 17" descr="C:\Documents and Settings\PalashinaND.SAMADM\Рабочий стол\Решения Думы\Решения Думы 2012\К решениюДумы по 5 КЗЗ 2012+Федосеева (КЗЗ 2 в 2012)\1\Слайд4.PNG"/>
          <p:cNvPicPr/>
          <p:nvPr/>
        </p:nvPicPr>
        <p:blipFill>
          <a:blip r:embed="rId3"/>
          <a:stretch/>
        </p:blipFill>
        <p:spPr>
          <a:xfrm>
            <a:off x="3429000" y="358452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" name="Picture 18" descr="C:\Documents and Settings\PalashinaND.SAMADM\Рабочий стол\Решения Думы\Решения Думы 2012\К решениюДумы по 5 КЗЗ 2012+Федосеева (КЗЗ 2 в 2012)\1\Слайд3.PNG"/>
          <p:cNvPicPr/>
          <p:nvPr/>
        </p:nvPicPr>
        <p:blipFill>
          <a:blip r:embed="rId4"/>
          <a:stretch/>
        </p:blipFill>
        <p:spPr>
          <a:xfrm>
            <a:off x="309600" y="358452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1:59:39Z</dcterms:created>
  <dc:creator>GDK</dc:creator>
  <dc:description/>
  <dc:language>en-US</dc:language>
  <cp:lastModifiedBy>Мария Шайкина</cp:lastModifiedBy>
  <cp:lastPrinted>2012-10-17T11:57:23Z</cp:lastPrinted>
  <dcterms:modified xsi:type="dcterms:W3CDTF">2012-12-07T05:11:13Z</dcterms:modified>
  <cp:revision>159</cp:revision>
  <dc:subject/>
  <dc:title>Слайд 1</dc:title>
</cp:coreProperties>
</file>